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.jpeg" ContentType="image/jpeg"/>
  <Override PartName="/ppt/media/image24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973-2429-485D-8CD0-CCD74C21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DB8-8A6C-4584-911F-A7A18BBF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216-E91A-42E6-B542-FED11DC0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6A7-B121-46A9-B9A0-4C79ADC8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6AE-D818-4550-8B52-C972FC03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A08-7A05-4861-82AA-1DCA13BB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9F4-C968-4B7A-A029-BF2864F5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C04-DF40-4A29-8276-A182B098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2F9-3083-40E7-B9C7-99662767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5E5-DDAA-41C3-8429-CB149034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202-C7D8-4B8A-B44B-04A1829C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B27-2ACD-4108-8E89-2BA629F8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9B46-1F27-4304-9BDD-F9FAC453A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Blackadder ITC"/>
              </a:rPr>
              <a:t>Used 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876560"/>
            <a:ext cx="266688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sti R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aCosta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V"/>
          <p:cNvPicPr/>
          <p:nvPr/>
        </p:nvPicPr>
        <p:blipFill>
          <a:blip r:embed="rId2"/>
          <a:stretch/>
        </p:blipFill>
        <p:spPr>
          <a:xfrm>
            <a:off x="4572000" y="685800"/>
            <a:ext cx="4219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you say about these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ontent Placeholder 3" descr="E_MichaelJackson.jpg"/>
          <p:cNvPicPr/>
          <p:nvPr/>
        </p:nvPicPr>
        <p:blipFill>
          <a:blip r:embed="rId1"/>
          <a:stretch/>
        </p:blipFill>
        <p:spPr>
          <a:xfrm>
            <a:off x="2971800" y="2133720"/>
            <a:ext cx="3095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3" descr="2532_full.jpg"/>
          <p:cNvPicPr/>
          <p:nvPr/>
        </p:nvPicPr>
        <p:blipFill>
          <a:blip r:embed="rId1"/>
          <a:srcRect l="50002" t="0" r="0" b="69697"/>
          <a:stretch/>
        </p:blipFill>
        <p:spPr>
          <a:xfrm>
            <a:off x="2362320" y="2209680"/>
            <a:ext cx="392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3" descr="2532_full.jpg"/>
          <p:cNvPicPr/>
          <p:nvPr/>
        </p:nvPicPr>
        <p:blipFill>
          <a:blip r:embed="rId1"/>
          <a:srcRect l="50002" t="31989" r="0" b="34339"/>
          <a:stretch/>
        </p:blipFill>
        <p:spPr>
          <a:xfrm>
            <a:off x="2438280" y="1828800"/>
            <a:ext cx="40197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abc_vanhalen_070424_ssh.jpg"/>
          <p:cNvPicPr/>
          <p:nvPr/>
        </p:nvPicPr>
        <p:blipFill>
          <a:blip r:embed="rId1"/>
          <a:stretch/>
        </p:blipFill>
        <p:spPr>
          <a:xfrm>
            <a:off x="1676520" y="2057400"/>
            <a:ext cx="55116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amywinehouseuf5.jpg"/>
          <p:cNvPicPr/>
          <p:nvPr/>
        </p:nvPicPr>
        <p:blipFill>
          <a:blip r:embed="rId1"/>
          <a:stretch/>
        </p:blipFill>
        <p:spPr>
          <a:xfrm>
            <a:off x="2819520" y="2133720"/>
            <a:ext cx="3470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ontent Placeholder 3" descr="arnold-before-and-after-cefjfhimcefjeghl.jpg"/>
          <p:cNvPicPr/>
          <p:nvPr/>
        </p:nvPicPr>
        <p:blipFill>
          <a:blip r:embed="rId1"/>
          <a:stretch/>
        </p:blipFill>
        <p:spPr>
          <a:xfrm>
            <a:off x="2719440" y="1600200"/>
            <a:ext cx="370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3" descr="brad_pitt.jpg"/>
          <p:cNvPicPr/>
          <p:nvPr/>
        </p:nvPicPr>
        <p:blipFill>
          <a:blip r:embed="rId1"/>
          <a:stretch/>
        </p:blipFill>
        <p:spPr>
          <a:xfrm>
            <a:off x="1676520" y="2133720"/>
            <a:ext cx="55814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alking about past habits, routines, states, and situations, especially when they are no longer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habi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e used to smoke cigaret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routin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he used to exercise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st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y used to be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situ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e used to live in Carlsb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use in sentences that contrast the past with th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pressions such 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w, no longer, not any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presen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he used to work at two jobs, but she no longer works.  She is retired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 + used to +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He used to work in a restaur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 + didn’t use to +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hey didn’t use to go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+ subject + use to + verb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Did you use to drive a red c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ebrities and Famous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perf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beauti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wonder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y have secrets?  Things they don’t want us to know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343400" y="42670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09480" y="4267080"/>
            <a:ext cx="762012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ch as, that they are only human? Like we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 they have faults and weaknesses, to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keletons in the clos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 to v. simpl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can be used in many cases when you used simple past with equal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quently c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ork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d to c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ate fo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MSj03884070000[1].wav" descr=""/>
          <p:cNvPicPr/>
          <p:nvPr/>
        </p:nvPicPr>
        <p:blipFill>
          <a:blip r:embed="rId1"/>
          <a:stretch/>
        </p:blipFill>
        <p:spPr>
          <a:xfrm>
            <a:off x="777240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MMj02866680000[1]"/>
          <p:cNvPicPr/>
          <p:nvPr/>
        </p:nvPicPr>
        <p:blipFill>
          <a:blip r:embed="rId2"/>
          <a:stretch/>
        </p:blipFill>
        <p:spPr>
          <a:xfrm>
            <a:off x="6629400" y="4419720"/>
            <a:ext cx="22478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33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 to v. simpl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differenc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te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past actions that happened 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fic, definite time in the pa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rked yester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:  She used to work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Cj02932220000[1]"/>
          <p:cNvPicPr/>
          <p:nvPr/>
        </p:nvPicPr>
        <p:blipFill>
          <a:blip r:embed="rId1"/>
          <a:stretch/>
        </p:blipFill>
        <p:spPr>
          <a:xfrm>
            <a:off x="1905120" y="4430880"/>
            <a:ext cx="457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t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=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 to / get used to = be accustomed / get accustom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dn’t use to l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rican food, but now 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m used to 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s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accustom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 How do like driving in Californ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 Well, at first the traffic annoyed me, but 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m getting used to it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coming accustom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MMj02545000000[1]"/>
          <p:cNvPicPr/>
          <p:nvPr/>
        </p:nvPicPr>
        <p:blipFill>
          <a:blip r:embed="rId1"/>
          <a:stretch/>
        </p:blipFill>
        <p:spPr>
          <a:xfrm>
            <a:off x="2514600" y="1752480"/>
            <a:ext cx="405756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(Unit 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nease"/>
          <p:cNvPicPr/>
          <p:nvPr/>
        </p:nvPicPr>
        <p:blipFill>
          <a:blip r:embed="rId1"/>
          <a:stretch/>
        </p:blipFill>
        <p:spPr>
          <a:xfrm>
            <a:off x="1981080" y="1447920"/>
            <a:ext cx="5181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rnold Schwarzenegger.  He used to be an action movie hero and body builder, but now he is a politician and the governor of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(SC)Arnold_Schwarzenegger_Photo"/>
          <p:cNvPicPr/>
          <p:nvPr/>
        </p:nvPicPr>
        <p:blipFill>
          <a:blip r:embed="rId1"/>
          <a:stretch/>
        </p:blipFill>
        <p:spPr>
          <a:xfrm>
            <a:off x="3890880" y="1600200"/>
            <a:ext cx="4184640" cy="5257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Arnold_Schwarzenegger"/>
          <p:cNvPicPr/>
          <p:nvPr/>
        </p:nvPicPr>
        <p:blipFill>
          <a:blip r:embed="rId2"/>
          <a:stretch/>
        </p:blipFill>
        <p:spPr>
          <a:xfrm>
            <a:off x="800280" y="1600200"/>
            <a:ext cx="3095280" cy="525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LNG%20LNG%20LNG%20&amp;%20Arnold%20Schwarzenegger%20LNG"/>
          <p:cNvPicPr/>
          <p:nvPr/>
        </p:nvPicPr>
        <p:blipFill>
          <a:blip r:embed="rId3"/>
          <a:stretch/>
        </p:blipFill>
        <p:spPr>
          <a:xfrm>
            <a:off x="533520" y="1611360"/>
            <a:ext cx="8001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lmo.  He used to be an innocent puppet, but now he has a police record and ties to the maf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elmo"/>
          <p:cNvPicPr/>
          <p:nvPr/>
        </p:nvPicPr>
        <p:blipFill>
          <a:blip r:embed="rId1"/>
          <a:stretch/>
        </p:blipFill>
        <p:spPr>
          <a:xfrm>
            <a:off x="990720" y="1657440"/>
            <a:ext cx="6933960" cy="520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274727INPm_w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ed D. Bear.  He used to be young and clean, but now is old and di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ed%20%20before%20&amp;%20after"/>
          <p:cNvPicPr/>
          <p:nvPr/>
        </p:nvPicPr>
        <p:blipFill>
          <a:blip r:embed="rId1"/>
          <a:stretch/>
        </p:blipFill>
        <p:spPr>
          <a:xfrm>
            <a:off x="380880" y="2103480"/>
            <a:ext cx="83822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Dawg.  She didn’t use to be famous, but now she is Ms. Dog Univer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Belle%20Dressed%20Up%20Before%20and%20After"/>
          <p:cNvPicPr/>
          <p:nvPr/>
        </p:nvPicPr>
        <p:blipFill>
          <a:blip r:embed="rId1"/>
          <a:stretch/>
        </p:blipFill>
        <p:spPr>
          <a:xfrm>
            <a:off x="1143000" y="2143080"/>
            <a:ext cx="7058160" cy="471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8915400" y="66294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13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Bill Clinton.  He used to like the ladies, and evidently he still do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Just interested"/>
          <p:cNvPicPr/>
          <p:nvPr/>
        </p:nvPicPr>
        <p:blipFill>
          <a:blip r:embed="rId1"/>
          <a:stretch/>
        </p:blipFill>
        <p:spPr>
          <a:xfrm>
            <a:off x="457200" y="1600200"/>
            <a:ext cx="3373560" cy="487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the_Mask_Bill_Clinton_Monica_Lewinski"/>
          <p:cNvPicPr/>
          <p:nvPr/>
        </p:nvPicPr>
        <p:blipFill>
          <a:blip r:embed="rId2"/>
          <a:stretch/>
        </p:blipFill>
        <p:spPr>
          <a:xfrm>
            <a:off x="4038480" y="2286000"/>
            <a:ext cx="5105520" cy="34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5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ill Gates, the founder of Microsoft.  He used to be a college dropout, but now he is the richest man in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young20bill20gates2024wo"/>
          <p:cNvPicPr/>
          <p:nvPr/>
        </p:nvPicPr>
        <p:blipFill>
          <a:blip r:embed="rId1"/>
          <a:stretch/>
        </p:blipFill>
        <p:spPr>
          <a:xfrm>
            <a:off x="0" y="2286000"/>
            <a:ext cx="458136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dtv%20gates"/>
          <p:cNvPicPr/>
          <p:nvPr/>
        </p:nvPicPr>
        <p:blipFill>
          <a:blip r:embed="rId2"/>
          <a:stretch/>
        </p:blipFill>
        <p:spPr>
          <a:xfrm>
            <a:off x="4267080" y="4094280"/>
            <a:ext cx="4876920" cy="27637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0"/>
          <p:cNvSpPr/>
          <p:nvPr/>
        </p:nvSpPr>
        <p:spPr>
          <a:xfrm>
            <a:off x="5715000" y="1752480"/>
            <a:ext cx="3048120" cy="2286000"/>
          </a:xfrm>
          <a:prstGeom prst="cloudCallout">
            <a:avLst>
              <a:gd name="adj1" fmla="val -39324"/>
              <a:gd name="adj2" fmla="val 63402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MPj04008530000[1]"/>
          <p:cNvPicPr/>
          <p:nvPr/>
        </p:nvPicPr>
        <p:blipFill>
          <a:blip r:embed="rId3"/>
          <a:stretch/>
        </p:blipFill>
        <p:spPr>
          <a:xfrm>
            <a:off x="6781680" y="2057400"/>
            <a:ext cx="1067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me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, so I’m not famous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used to have big hair and didn’t use to wear g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4324320" cy="5819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838080" y="26668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57150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 Prom, 19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6019560" y="243828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70102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s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6:03:15Z</dcterms:created>
  <dc:creator>Kristi Reyes</dc:creator>
  <dc:description/>
  <dc:language>en-US</dc:language>
  <cp:lastModifiedBy>Owner</cp:lastModifiedBy>
  <dcterms:modified xsi:type="dcterms:W3CDTF">2009-09-17T21:14:30Z</dcterms:modified>
  <cp:revision>12</cp:revision>
  <dc:subject/>
  <dc:title>Slide 1</dc:title>
</cp:coreProperties>
</file>